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7F8-ED20-48F2-B027-5A729EF3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921-FE60-4F9E-841E-A99EA783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77E-FADF-409A-962F-AA86178A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EC3-2D02-41F1-88D6-1982D6E2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0197-CA93-4C95-9191-CD0DC5E9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58A0-96A8-49D0-9F96-5C31C69C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DC24-7961-42DB-85A2-93A3BDCF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AA40-1895-4926-B897-5D6CB9B1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6FF5-F0E4-4A5B-A32D-E303B6C1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556F-CECD-4064-A0FA-04FCE854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79A0-1BB0-4A51-ADD6-30E5AC88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9D1-DDFF-436D-AEFF-0F3ECC03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AF46-89FA-49E7-B08D-07FE2B9A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1F45-C98B-4DC6-A8BD-BAD0A14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4E69-B293-48A7-97E6-C87F0528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90EE-39BB-42ED-80A4-F9A21490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0BD6-8970-4412-95D2-1A7C37CD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7AE-30B0-4E4E-8B2D-90938967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C0E-DCA0-419D-9931-E6295135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8F5-9FF3-4CFA-955A-57F0726A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50A-BF3E-4A30-B13C-9D9A95E6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2E8-1D2A-4CFA-80D1-D6CEC593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F3C-67CE-40D0-8E71-AEE0F00E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372-B686-40AB-A54C-2FB82AF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	</a:t>
            </a:r>
            <a:fld id="{5413DE24-39BE-43EF-8BD0-9F83DF357F1A}" type="slidenum"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010280" y="61722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33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6E01-3AF8-4BCB-A435-789D58177D57}" type="slidenum"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Life of Christ – Part 2</a:t>
            </a:r>
            <a:br>
              <a:rPr sz="48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“Sir, We Would See Jesus”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2481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0, Lesson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24-1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10:17-52; Luke 19:1-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E26C-6C18-4A4B-8EC3-516785091C6D}" type="slidenum">
              <a:t>1</a:t>
            </a:fld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osing Practical Application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 the test that the rich young ruler failed:  Make sure God and His kingdom are most valuable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rue greatness in God’s kingdom is in sacrificial service to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nd see with the eyes of your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re to take such interest in the Savior that he can go home with you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o use the talents and abilities God has given you to build a greater spiritual treasure ch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DB3-BE41-43F3-90C6-BCFEAFD4D505}" type="slidenum">
              <a:t>10</a:t>
            </a:fld>
          </a:p>
        </p:txBody>
      </p:sp>
    </p:spTree>
  </p:cSld>
  <p:transition>
    <p:strips dir="r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3504600" y="25909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bbe0e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3345000">
            <a:off x="3200040" y="38098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533520"/>
            <a:ext cx="3124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6e02"/>
                </a:solidFill>
                <a:latin typeface="Arial"/>
              </a:rPr>
              <a:t>Basic Outline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ears of Preparation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ginning Ministry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reat Galilean Ministry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iod of Retirement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Closing Ministry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Jesus starts His last journey to Jerusalem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Last Week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surrection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xaltation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21D-792E-46CA-B452-A319784714A5}" type="slidenum">
              <a:t>2</a:t>
            </a:fld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he Close of Jesus’ Ministr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utlined As Follow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rom Fall To The Spring of His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rrives in Jerusalem for Feast of Tabernacles  - Jno. 7-10; Luke 10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t of Dedication (three months before His death) – Jno. 10:22-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withdraws to Perea – Jno. 10:40-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tarts His last journey to Jerusalem – Luke 17: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981-F94D-48DC-B073-A6C40775784B}" type="slidenum">
              <a:t>3</a:t>
            </a:fld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ast Journey to Jerusa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ich Young Ruler – Mark 10:17-31; Matt.19:16-20; Luke 18:18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d he observed all the command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tested on the issue of “other gods before God” (His material possessions had become his g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goes away from Jesus with a sad cou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could have had better things in the kingdom of God, though they are not material in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ernal life will be more than adequate compensation for any loss experienced in this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625-3F4F-4885-A3B4-8284B1BBE258}" type="slidenum">
              <a:t>4</a:t>
            </a:fld>
          </a:p>
        </p:txBody>
      </p:sp>
    </p:spTree>
  </p:cSld>
  <p:transition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ast Journey to Jerusa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gain foretells His death and resurrection ( Mark 10:32-34; Matt. 20:17-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postles just could not accept this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not at all what they had in mind or what they hoped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ill understand and appreciate it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1A0-F7A8-4400-8071-F3FCAEBF6295}" type="slidenum">
              <a:t>5</a:t>
            </a:fld>
          </a:p>
        </p:txBody>
      </p:sp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ast Journey to Jerusa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rebukes the selfish request of James and John (Mark 10:35-45;  Matt. 20:20-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quest: “we want to sit in places of honor next to you in Your glorious kingdo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fusal: “you don’t know what you are ask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riction: The Father will determine future sitting arrang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entment: the other ten are upset with James and Jo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view: Going over the conditions for true grea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in humility and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lso in following Jesus through a baptism of suffe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5D6-66FC-44B8-BA21-9F888826CCB0}" type="slidenum">
              <a:t>6</a:t>
            </a:fld>
          </a:p>
        </p:txBody>
      </p:sp>
    </p:spTree>
  </p:cSld>
  <p:transition>
    <p:strips dir="r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006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13360" y="2057400"/>
            <a:ext cx="4130640" cy="4800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6858000" y="2133720"/>
            <a:ext cx="914400" cy="609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590920"/>
            <a:ext cx="228600" cy="10666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428640" y="3657600"/>
            <a:ext cx="152280" cy="457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049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Crossing the Jordan and nearing Jericho</a:t>
            </a:r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5F9-FB4B-41F5-B450-E4E41FA98FA8}" type="slidenum">
              <a:t>7</a:t>
            </a:fld>
          </a:p>
        </p:txBody>
      </p:sp>
    </p:spTree>
  </p:cSld>
  <p:transition>
    <p:strips dir="r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ast Journey to Jerusa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ling of Bartimaeus the blind man and his companion (Mark 10:46-52; Matt. 20:29-34; Luke 18:35-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crossing the Jordan and nearing Jeri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saw Jesus as “Son of David” and knew Jesus could have mercy on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would let them see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opened their physical eyes in order to open others’ spiritual e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25B-9FD9-427C-B389-85D87E6C023D}" type="slidenum">
              <a:t>8</a:t>
            </a:fld>
          </a:p>
        </p:txBody>
      </p:sp>
    </p:spTree>
  </p:cSld>
  <p:transition>
    <p:strips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ast Journey to Jerusa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meets Zacchaeus (Luke 19:1-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treets of Jeri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ort man seeking to see a great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reat man is not too busy for a see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goes home with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inner seeking Jesus will gladly change his manner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d gladly brings salvation to penitent sin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’ parable of the Pou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expects all kingdom subjects to be diligent stewards of their particular measure of 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will punish slothful and careless ste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5CF-26B3-4FE4-9974-EF3A1F539EF8}" type="slidenum">
              <a:t>9</a:t>
            </a:fld>
          </a:p>
        </p:txBody>
      </p:sp>
    </p:spTree>
  </p:cSld>
  <p:transition>
    <p:strips dir="r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17:27:15Z</dcterms:created>
  <dc:creator>Terry W. Benton</dc:creator>
  <dc:description/>
  <dc:language>en-US</dc:language>
  <cp:lastModifiedBy>Frank D Vines</cp:lastModifiedBy>
  <dcterms:modified xsi:type="dcterms:W3CDTF">2006-09-04T16:56:29Z</dcterms:modified>
  <cp:revision>3</cp:revision>
  <dc:subject/>
  <dc:title>Life of Christ – Part 2 “Sir, We Would See Jesus”</dc:title>
</cp:coreProperties>
</file>